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760B-5085-4B42-BF60-FA3E2A3ED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E4D9-1EE3-4CB7-8170-D28C59EDC6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93DC-5BF4-4C4F-B8D7-B7B1A842284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F52E-CF0F-406E-9D6E-2FD6F9EDE2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AB1B-6CB1-4850-A15F-7E867B58FA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BEE-020F-4629-B824-95F6EC8C35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106A-2736-4CD9-866C-445B0CA271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AE93-2FD8-489E-883D-A23919841D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316-8E7A-4F9E-9BA8-966E341582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2DD3-6AD8-4B59-86A5-846F508032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139-B966-4040-B0E7-1D1D337ADF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9CB6-29B0-4EA1-9278-2FE2271ADE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F20A-10FB-4A05-B2B4-E598BF71AB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9E3-F6DF-40EE-954D-A79E0BA5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E4B-7DE6-46D3-90DA-41152BA0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709-0838-412D-A0BF-D86B8609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3DB-C5AC-49C7-92CE-B4047FA4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7516-C8ED-4CF7-9103-B58FC103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6F3-CC58-4C5B-BD79-0EDD7947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EB7A-44F0-4D66-9AB3-79709CC4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CAED-DC4D-46D7-BF18-EFDDE0FF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2E78-0502-4C01-B3C7-20D6BE4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AA8B-F32D-4B84-87D3-0814B105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9A7D-E71E-4FEA-82F8-E3D2CB4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BB3-C358-43FD-8976-B524D49F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329-CB75-41CE-8C19-0A3C91D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765-9C64-4FAC-A4A4-916D1F5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5233-711B-4206-875F-C83C21E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7FE-5DF1-4AAA-98EB-0773F938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F720-4E8F-4C2A-9A7E-7FB0848A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4A22-018D-4DE2-AC85-853DDA83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D07D-B623-4895-B3CD-9123F91E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121C-1B34-4B62-8155-5C9DE0D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D228F-FDC8-42B6-8918-1D7ED8E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C11A-9F1E-42F4-B1C2-D23ADA56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5C2-81B0-403B-8C1B-055F7096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C166-4C16-4F69-9438-DCB027A1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BBD9-7015-4727-93BE-AD89763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DD68-C978-4A14-81C9-5B8B4EC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5F79-7BEF-46F8-BC9F-8112E158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5BD4-182E-4F9B-AC4C-17AB901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126A-534F-4784-8C6E-476A0968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104E-6FEA-40DC-899B-C82AE302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FC1E-557E-493D-8134-D0907F74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E3F3-0997-4791-8CC1-FB00DFED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3511-26C7-4A3A-B4A2-352D09AD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7F5-D542-4871-A637-BCA4769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74DA-D7FC-46DE-97CE-7EE06B8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9BDB-D490-4F76-AD86-05344F8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6190-2240-4D6D-A6EE-36CF81DE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A5585-D65D-41C5-BEB0-819DB76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A919-DCDD-45FD-805E-DCF8017F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2478-8DD9-497D-A863-BF408DE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9086-153F-4616-9F49-298CC2D1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6952-76BB-49CE-92C3-737C93DF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2BBD-7641-4898-B01C-DFDA3D06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F50C-BD99-42B7-8606-EB0946D4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B59-1FDB-4A4B-AA81-529173C5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711B-43A6-419E-B382-DD480A0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7362E-7BEF-4D39-A0B0-D7764AC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52D4-FA36-4C54-BDCB-B4AA3C72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EF13-99BC-4FBA-9BFB-C6BBDF68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87714-7040-4BAF-8B9C-AB36AB66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233DE-8CEF-44B8-9DB3-39829D90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3E2CB-4480-412E-84DC-5CD8AF9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C1A9D-7904-44A3-B227-04FD55F9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7D49-BAE0-4279-B57A-10D92141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D984-8108-4D66-B1EE-7C3F29B7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F68-30CB-431A-86A1-0B184259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5C344-DEC0-46DD-9688-FC7BC0BD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15C32-63B0-414D-AC40-EF128DE5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C161-5058-469E-BD0E-FE730C8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2AC2-BA71-4160-B362-6472D3AA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DF744-5249-42CF-99AE-019D04EF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1123F-3CBA-4807-858F-A4FADCB5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B8AB-020D-4012-A845-548FAE88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74B8-3AB1-4B3A-BC7C-393BC6E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78999-ACD7-408F-972A-52BCF7FC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014FD-2D11-4468-8965-B7FA710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403-8658-4BBE-AD5F-1908A82B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0B2CA-E401-4C77-A399-7EE2B4B0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904B-5610-4D81-82D8-6EF581BC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53B1-8A8B-4B14-BC52-6BC217B7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FB358-0B25-4E2E-8685-28116818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17CC-C4C4-4935-A632-EB2C57A5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99CE-95F2-449E-87FC-FEAB30F4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9DD13-3909-4877-A483-F0436E6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40466-CAE7-420D-B496-ADD0569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2AA16-AFAF-4807-BC7F-FA06E312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732A0-9D2F-4427-A7D3-B879C94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0F2-0DDE-47BE-89D6-26FAF5B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E56C5-9F36-46F1-8835-1DDAED9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71AD-55AF-46B6-B69F-026538E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5533D-C7F7-4DEC-91BF-95FF6E55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9525E-D4FB-490E-A553-100EAA5D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3478-959D-400C-BD0B-32D87859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076-DCD1-4798-84B0-506F2CC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B3E8-BC3D-4E57-B9F5-78C33D9CE26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C45-EBB7-4A64-A99B-8AD394D3822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354C-4BE7-4A20-A4E2-5BF94E7B646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7BEE-0942-4CDA-8E57-F4E0A5B3D9F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0C2B-A734-47EA-959E-086F53A48C33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E506-5C2D-4810-944F-F7919FAF727A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FCCA-7211-4F00-A274-CBE3FEBE81FA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.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d6ecff"/>
              </a:buClr>
              <a:buSzPct val="9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understand how representations of black culture progressed from one film to the othe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d6ecff"/>
              </a:buClr>
              <a:buSzPct val="9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begin understanding the social implications of these representation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Freestyle-Poster"/>
          <p:cNvPicPr/>
          <p:nvPr/>
        </p:nvPicPr>
        <p:blipFill>
          <a:blip r:embed="rId2"/>
          <a:stretch/>
        </p:blipFill>
        <p:spPr>
          <a:xfrm>
            <a:off x="465120" y="115920"/>
            <a:ext cx="2882880" cy="2165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dulthoodPoster"/>
          <p:cNvPicPr/>
          <p:nvPr/>
        </p:nvPicPr>
        <p:blipFill>
          <a:blip r:embed="rId3"/>
          <a:stretch/>
        </p:blipFill>
        <p:spPr>
          <a:xfrm>
            <a:off x="6156360" y="18900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ask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the following characters into Stuart Hall’s characterisation categories. How have the characters progressed over a period of tim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5" descr="kidulthood203_203x152"/>
          <p:cNvPicPr/>
          <p:nvPr/>
        </p:nvPicPr>
        <p:blipFill>
          <a:blip r:embed="rId1"/>
          <a:stretch/>
        </p:blipFill>
        <p:spPr>
          <a:xfrm>
            <a:off x="4356000" y="515772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freestyle-dance-movie-001"/>
          <p:cNvPicPr/>
          <p:nvPr/>
        </p:nvPicPr>
        <p:blipFill>
          <a:blip r:embed="rId2"/>
          <a:srcRect l="0" t="0" r="55616" b="0"/>
          <a:stretch/>
        </p:blipFill>
        <p:spPr>
          <a:xfrm>
            <a:off x="6732720" y="2924280"/>
            <a:ext cx="1944720" cy="2628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Brinsley+Forde+babylon460"/>
          <p:cNvPicPr/>
          <p:nvPr/>
        </p:nvPicPr>
        <p:blipFill>
          <a:blip r:embed="rId3"/>
          <a:srcRect l="54745" t="0" r="0" b="0"/>
          <a:stretch/>
        </p:blipFill>
        <p:spPr>
          <a:xfrm>
            <a:off x="395280" y="2997360"/>
            <a:ext cx="1727280" cy="2288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norman_beaton"/>
          <p:cNvPicPr/>
          <p:nvPr/>
        </p:nvPicPr>
        <p:blipFill>
          <a:blip r:embed="rId4"/>
          <a:stretch/>
        </p:blipFill>
        <p:spPr>
          <a:xfrm>
            <a:off x="2411280" y="299736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nb2"/>
          <p:cNvPicPr/>
          <p:nvPr/>
        </p:nvPicPr>
        <p:blipFill>
          <a:blip r:embed="rId5"/>
          <a:stretch/>
        </p:blipFill>
        <p:spPr>
          <a:xfrm>
            <a:off x="108000" y="5437080"/>
            <a:ext cx="2087640" cy="142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trife"/>
          <p:cNvPicPr/>
          <p:nvPr/>
        </p:nvPicPr>
        <p:blipFill>
          <a:blip r:embed="rId6"/>
          <a:srcRect l="39965" t="0" r="0" b="0"/>
          <a:stretch/>
        </p:blipFill>
        <p:spPr>
          <a:xfrm>
            <a:off x="4427640" y="2997360"/>
            <a:ext cx="1623960" cy="1485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garybeadle"/>
          <p:cNvPicPr/>
          <p:nvPr/>
        </p:nvPicPr>
        <p:blipFill>
          <a:blip r:embed="rId7"/>
          <a:stretch/>
        </p:blipFill>
        <p:spPr>
          <a:xfrm>
            <a:off x="2411280" y="5445000"/>
            <a:ext cx="1619280" cy="990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4"/>
          <p:cNvSpPr/>
          <p:nvPr/>
        </p:nvSpPr>
        <p:spPr>
          <a:xfrm>
            <a:off x="6804000" y="587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ayne Cha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/W Compare the artic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2/3 articles on Kidulthood and Freestyl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are the ideas of both films from what the articles sa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e these representations considered an accurate reflectio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would you link these points to the four areas that your answers must contai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have we learned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will you improve your exam practice result for next month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theory can you apply to each film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me a key scene in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Kidulthoo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nd name the theory it relates to and the social implications of that view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me a key scene in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Freestyl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nd name the theory it relates to and the social implications of that view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rter: Who am I?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628280"/>
            <a:ext cx="7772400" cy="47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theory could we apply to the following characters? Or which ideas/ theories do they subver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5" descr="freestyle-dance-movie-001"/>
          <p:cNvPicPr/>
          <p:nvPr/>
        </p:nvPicPr>
        <p:blipFill>
          <a:blip r:embed="rId1"/>
          <a:srcRect l="0" t="0" r="55616" b="0"/>
          <a:stretch/>
        </p:blipFill>
        <p:spPr>
          <a:xfrm>
            <a:off x="539640" y="3176640"/>
            <a:ext cx="1944720" cy="2628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freestyle-dance-movie-001"/>
          <p:cNvPicPr/>
          <p:nvPr/>
        </p:nvPicPr>
        <p:blipFill>
          <a:blip r:embed="rId2"/>
          <a:srcRect l="46019" t="0" r="0" b="0"/>
          <a:stretch/>
        </p:blipFill>
        <p:spPr>
          <a:xfrm>
            <a:off x="2916360" y="3176640"/>
            <a:ext cx="2365200" cy="26287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7"/>
          <p:cNvSpPr/>
          <p:nvPr/>
        </p:nvSpPr>
        <p:spPr>
          <a:xfrm>
            <a:off x="5651640" y="3228840"/>
            <a:ext cx="33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ayne Cha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acinth March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un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6836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on Cha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291636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dene March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reas of focus for section 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does contemporary media represent black people in different way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does contemporary representation compare to previous time period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are the social implications of different media representations of groups of peopl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o what extent is human identity increasingly ‘mediated’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O’s for this sec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O1: Demonstrate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knowledge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understanding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of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media concept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context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critical debate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, using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terminology appropriately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with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accurate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coherent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written express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O2: Apply knowledge and understanding to show how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meaning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re created when analysing </a:t>
            </a: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media products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 and evaluating their own practical work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odel answ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veryone has a copy of Jennifer’s response to the exam ques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alyse the ways in which the media represent one group of people that you have studied. [50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member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 can refer to other films you have studied/seen in relation to the representation of black people. But make the case studies your main focu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 will be discussing two media in the exam so ensure you include them both in the real th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lways refer to theory and with reference to the text, give examples of that particular represent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ave you essay structured; introduction, argument/discussion and conclus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fer to the question throughout your response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nsure you’re hitting the AO’s and the 4 areas throughout your respons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nsure your response flows well, has consistency and refers to present, past and future representations (with emphasis on the contemporary/present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ory in group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iscuss in groups what theories you can apply to each film and wh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so consider the themes in each film and relate those to theory and represent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’ll then feedback your responses on the bo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hanges over time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is a 3 year gap between these film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ow have the representations of black people changed from 2006-2009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 pairs list your ideas and feedback to the clas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y Scene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do you think were the key scenes in the film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do you think audiences would react to these scenes? Would there be a social backlash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oose 3 for each film and discuss in groups then share with the clas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53:27Z</dcterms:created>
  <dc:creator>martinaos</dc:creator>
  <dc:description/>
  <dc:language>en-US</dc:language>
  <cp:lastModifiedBy>Martina</cp:lastModifiedBy>
  <dcterms:modified xsi:type="dcterms:W3CDTF">2010-11-11T22:01:46Z</dcterms:modified>
  <cp:revision>13</cp:revision>
  <dc:subject/>
  <dc:title>Comparison of KiDulthood and Freestyle</dc:title>
</cp:coreProperties>
</file>